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305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58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4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3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34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13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134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13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86840" y="0"/>
            <a:ext cx="1828800" cy="138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031160"/>
            <a:ext cx="96084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/8/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94680" y="6400800"/>
            <a:ext cx="18799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ott C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 Lab Retreat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GMOD Updat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892160"/>
            <a:ext cx="8774280" cy="50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gress since last yea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oftware releas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able new us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chema enhanc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ew GMOD website/Demo si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lans for the coming yea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oftware releas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operative agre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dENCO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ebsite/Demo site improv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Software Releas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5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Browse (Lincoln Stei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pollo (Mark Gibson &amp; Nomi Harris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Map (Ben Faga and Ken Clark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mod 0.003 (alpha) (Scott Cai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uceGene (a lucene based gbrowse adaptor) (Don Gilbert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lashGViewer (Simon Twigger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lastGraphic (Developers at SGD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03360"/>
            <a:ext cx="860904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Notable Us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22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rameciumDB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SC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amene (for the HS instructional grant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ver 150 organizations use GMOD softwa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Schema improvemen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5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DB bridge—can now run AmiGO on Chado (Allen Day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leaner separation of genotypes and phenotypes; should make it easier for evolutionary biologists (Chris Mungall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eatly improved loading tools (over 0.003 release) (Scott Cai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New GMOD Web/Demo Sit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ww.gmod.org migrated to brebiou from SourceForge.n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unning Drupal C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tained a new demo server (gmod.cshl.edu); currently running a yeast comparative genome database with turnkey, gbrowse, cmap, apollo, and biomart (See poster tomorrow or Thursday(?)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To Do: Software releas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5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Browse 1.65: fixes since 1.64 (RS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Browse 1.66: templates (2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half 2006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mod 0.01 (RS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MODTools (?, Don Gilbert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mod-ware (Eric Just at DictyBase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urnkey (?, Allen Day &amp; Brian O'Connor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Map 0.16? (RS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ioPipe (Olivier Arnaiz)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operative Agreemen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SCent: Next GMOD meeting there on June 29-30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an Holmes group for GBrowse-AJAX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odENCO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bmitting a joint grant with UCSC to provide a data center for worm/fly ENCODE projects using a chado database and GMOD too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Web/Demo Site Improvemen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'm pretty happy with the website, but is anybody else?  Will run a poll and ask for suggesti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ed to continue to add docs and FAQ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Demo sit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dd more databases ('reference implementations'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tabilize turnke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ovide an 'editable' database to allow Apollo edits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 a unified cs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igrate www.gmod.org to gmod.cshl.edu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6-05-08T14:52:37Z</dcterms:modified>
  <cp:revision>3</cp:revision>
  <dc:subject/>
  <dc:title>GMOD Update</dc:title>
</cp:coreProperties>
</file>